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007-6CE2-41CB-8858-42294F8B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8AC-060B-451B-88D6-D810390C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911-C08C-4180-84FD-7CCEAB64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359-1458-42CD-84CC-1C3512F0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BAA8-95CA-4AAC-8BFA-03D9AD1E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7701-4047-41D9-9FDD-13A4CC42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10F-F18B-4B1D-AEAE-6BE1201F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0180-0056-46B2-B7AC-22BF06A4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2A90-CC37-4CDC-9F96-9184B331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FDAE-15E1-497B-89B8-E3D767AB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1395-A163-4DF7-B6B5-FB997DB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B54-0B4F-48B7-B49F-0F07BCC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AF0D-E873-44B9-9B4E-5410113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91CE-80D0-4CA0-83FF-780E52AD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6FA8-B87F-420A-B1D0-69EC8AF6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DBFF-9431-435F-9697-CBC55BF5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4B29-99B3-4634-9003-98BB1410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6F9-CC5B-4139-BD1B-BB4A6178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D16-DDF2-4FB5-ABA2-70E6491D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E5B-5034-4F2E-B895-BC02DF3B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0C7-5290-4EC8-84AE-4FA59EF7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781-0502-4F99-9AF1-801F3805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BFC-C226-41A1-B685-506D9EE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9FF-B214-4721-A857-1CF0234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0155-B99E-4A4D-92B1-D9D7184D39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C38B-3342-4D80-92E9-824FE462C1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9840" y="265752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KRACANIE UŁAM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954000"/>
            <a:ext cx="69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la z Anią przyrządzały sałatkę owocową. Jola użyła    pomarańczy, natomiast Ania    . Czy obie dziewczynki użyły takiej samej ilości pomarańczy do swoich sałat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842000" y="1224000"/>
                <a:ext cx="223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316640" y="954000"/>
                <a:ext cx="243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" name="Obraz 149" descr=""/>
          <p:cNvPicPr/>
          <p:nvPr/>
        </p:nvPicPr>
        <p:blipFill>
          <a:blip r:embed="rId1"/>
          <a:stretch/>
        </p:blipFill>
        <p:spPr>
          <a:xfrm>
            <a:off x="2592360" y="1898640"/>
            <a:ext cx="4051440" cy="135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62360" y="3241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5560" y="3249720"/>
            <a:ext cx="31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716280" y="324972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33480" y="4059360"/>
            <a:ext cx="1247760" cy="12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77000" y="4059360"/>
            <a:ext cx="1225800" cy="126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50920" y="3736800"/>
            <a:ext cx="77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zedstawmy użyte ilości pomarańczy przez dziewczynki za pomocą figu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57360" y="4238640"/>
            <a:ext cx="67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 figurach zostały zamalowane w takich samych części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57360" y="4745160"/>
            <a:ext cx="4861080" cy="393480"/>
            <a:chOff x="2457360" y="4745160"/>
            <a:chExt cx="4861080" cy="39348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7075440" y="4745160"/>
                  <a:ext cx="152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2457360" y="4745160"/>
              <a:ext cx="48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usimy doprowadzić ułamek    do postac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770440" y="4745160"/>
                  <a:ext cx="152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699160" y="320364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7000" y="554364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żemy zatem napis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00560" y="5408640"/>
                <a:ext cx="1485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202360" y="5454720"/>
            <a:ext cx="35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konaliśmy czynność zwaną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racaniem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67000" y="6264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Wnio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66640" y="5094360"/>
            <a:ext cx="2384280" cy="49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36640" y="1494000"/>
            <a:ext cx="6166080" cy="4508280"/>
            <a:chOff x="1736640" y="1494000"/>
            <a:chExt cx="6166080" cy="4508280"/>
          </a:xfrm>
        </p:grpSpPr>
        <p:graphicFrame>
          <p:nvGraphicFramePr>
            <p:cNvPr id="123" name=""/>
            <p:cNvGraphicFramePr/>
            <p:nvPr/>
          </p:nvGraphicFramePr>
          <p:xfrm>
            <a:off x="1736640" y="1494000"/>
            <a:ext cx="6166080" cy="450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6640" y="1494000"/>
                      <a:ext cx="6166080" cy="450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2185920" y="2135160"/>
              <a:ext cx="5580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kracając ułamek należy 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licznik i mianownik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ułamka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podzielić przez tą samą liczb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KI NIESKRACAL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0920" y="1359000"/>
            <a:ext cx="80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łamki, których nie można skrócić nazywam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łamkami nieskracaln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50920" y="2965320"/>
                <a:ext cx="598644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1640" y="234936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17720" y="5273640"/>
            <a:ext cx="58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zy zauważyłeś coś ciekaweg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15:15Z</dcterms:modified>
  <cp:revision>49</cp:revision>
  <dc:subject/>
  <dc:title>Slajd 1</dc:title>
</cp:coreProperties>
</file>